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D616-D15B-4F0C-8BCA-7775E6ACC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6638-AFE1-4383-9A49-596B0BDF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9D2F-A9E7-414F-BE49-3BDC86286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5FE7-8181-437F-8BAF-E75DC46CF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AE55-DDB3-4568-86C7-1FD06827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2C70-5EEE-4031-BA77-35CB0CD8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AB6C-04ED-4560-9B26-3DC23F2C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05E6-A055-4D79-A573-CA5C6F4C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EE53-477D-461A-8D28-44922687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D6CA-0636-4D74-BB02-732C66E1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002F-0F6E-4255-BE55-A9BC1C7E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B71D-E84A-4BBB-8437-4EB6BA23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8CCE-943B-4896-8AFE-ED3292E4F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9391" t="14564" r="9391" b="10636"/>
          <a:stretch/>
        </p:blipFill>
        <p:spPr>
          <a:xfrm>
            <a:off x="611280" y="836640"/>
            <a:ext cx="79214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4:17:53Z</dcterms:created>
  <dc:creator>ESCOTA</dc:creator>
  <dc:description/>
  <dc:language>en-US</dc:language>
  <cp:lastModifiedBy>ESCOTA</cp:lastModifiedBy>
  <dcterms:modified xsi:type="dcterms:W3CDTF">2007-01-10T14:18:48Z</dcterms:modified>
  <cp:revision>1</cp:revision>
  <dc:subject/>
  <dc:title>Diapositive 1</dc:title>
</cp:coreProperties>
</file>