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6AD-076C-4E8E-A0D9-939A62B0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F40-2D5B-432D-BC63-50461E1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8E1-EAAE-4D7C-84CA-3C5F07A0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233-AD0D-44FF-BD33-53811F43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1AC-8E36-42DA-B7CD-56ED245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12F-1D3E-457D-B36E-3A2F5413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B58-409D-4265-8075-181D879D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FFD-5227-4D30-B469-C02AEAA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958-C24C-49F8-BBC6-C15CE58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6D4-CA85-4FBB-A954-B61245C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235-E29F-44A4-A59E-C9C54A5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9B7-A469-4ACA-A17F-5070C95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4BE3-BEA2-4035-916E-A3C69D40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4564" r="9391" b="8658"/>
          <a:stretch/>
        </p:blipFill>
        <p:spPr>
          <a:xfrm>
            <a:off x="539640" y="836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6:34:37Z</dcterms:created>
  <dc:creator>ESCOTA</dc:creator>
  <dc:description/>
  <dc:language>en-US</dc:language>
  <cp:lastModifiedBy>ESCOTA</cp:lastModifiedBy>
  <dcterms:modified xsi:type="dcterms:W3CDTF">2007-01-12T06:35:25Z</dcterms:modified>
  <cp:revision>1</cp:revision>
  <dc:subject/>
  <dc:title>Diapositive 1</dc:title>
</cp:coreProperties>
</file>