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DC2-9905-43D6-BB24-4A2673CF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429-59F0-45CF-A349-F65C2ECA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43F2-130D-4D2A-95B7-9AAFB32F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AC9-4D4B-4587-ACD1-DACB5448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9CD-604E-4825-B3C7-AF87AC20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499-3AA4-4D2E-A761-41470D43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75E-C937-4640-9F0F-1ABC16A0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FC6-D715-41F0-B828-9C81F6BE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450-10F2-4371-BC13-E2E2E4B1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645-74E1-4FEA-AF55-AE9FE5CF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0DD-F3D6-423E-9A26-DA016947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554-9B12-44FB-8471-51F756F0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9070-67EC-4BBA-8603-8CD46DD22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8660" t="15539" r="10141" b="8658"/>
          <a:stretch/>
        </p:blipFill>
        <p:spPr>
          <a:xfrm>
            <a:off x="539640" y="907920"/>
            <a:ext cx="792000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4:30:50Z</dcterms:created>
  <dc:creator>ESCOTA</dc:creator>
  <dc:description/>
  <dc:language>en-US</dc:language>
  <cp:lastModifiedBy>ESCOTA</cp:lastModifiedBy>
  <dcterms:modified xsi:type="dcterms:W3CDTF">2007-01-11T14:32:06Z</dcterms:modified>
  <cp:revision>1</cp:revision>
  <dc:subject/>
  <dc:title>Diapositive 1</dc:title>
</cp:coreProperties>
</file>