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4AB-30ED-4418-AE04-D45707AB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395-2F42-4C2D-B40B-9474F41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C83-657E-4BC2-A251-FD099093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E1A-3E0D-4368-9E77-264AF357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DD8-3B00-46E5-969E-916351A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39C-4977-41EC-8CFE-E6BC62C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470-7CBE-4347-89F9-C266A9E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979-2391-4372-9F13-1DD62ACA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CFF-1C3D-4E3F-ABFB-45AD8B4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DE7-6F0D-4E28-8AF4-EEEF582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91B-CF93-4FAA-BCD0-FC129BA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8A8-BD51-4342-90F1-5A927B2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5008-73D1-4024-A177-8BB83DB1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3:05Z</dcterms:created>
  <dc:creator>ESCOTA</dc:creator>
  <dc:description/>
  <dc:language>en-US</dc:language>
  <cp:lastModifiedBy>ESCOTA</cp:lastModifiedBy>
  <dcterms:modified xsi:type="dcterms:W3CDTF">2007-01-11T14:33:42Z</dcterms:modified>
  <cp:revision>1</cp:revision>
  <dc:subject/>
  <dc:title>Diapositive 1</dc:title>
</cp:coreProperties>
</file>