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AB315-630F-4A7E-B4B7-13F638BC6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9EDE-FAAC-40AC-9C5C-D3486BA8D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C830-88D3-4D24-8734-5672908D1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EEC2-4C8D-42A8-8E3E-7D249242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AAA14-A659-4EAA-B5EF-9FDF2C72A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04376-C6BC-4B2E-8F07-D6B48AF6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FADF-D36D-4328-8154-FF812EBB1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A688-10A5-4C11-8EAC-AD0E43CD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6061-63F7-45BD-AE1E-105E130D1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1E8E2-DB10-45AD-A1EF-1B8504F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51A94-A2C4-4E05-BD9C-7C23E27F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8F2A5-037A-4116-B3C4-FE5903EC2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5F323-E155-46BE-8717-E424945CA8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9391" t="14564" r="9391" b="10636"/>
          <a:stretch/>
        </p:blipFill>
        <p:spPr>
          <a:xfrm>
            <a:off x="611280" y="836640"/>
            <a:ext cx="7921440" cy="54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0T14:17:53Z</dcterms:created>
  <dc:creator>ESCOTA</dc:creator>
  <dc:description/>
  <dc:language>en-US</dc:language>
  <cp:lastModifiedBy>ESCOTA</cp:lastModifiedBy>
  <dcterms:modified xsi:type="dcterms:W3CDTF">2007-01-10T14:18:48Z</dcterms:modified>
  <cp:revision>1</cp:revision>
  <dc:subject/>
  <dc:title>Diapositive 1</dc:title>
</cp:coreProperties>
</file>