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36D-1C7B-4FC6-9EE6-D2FA03C0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071-17A6-4D24-A0DB-6F4B092F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549-D163-478D-98FD-0736D8E3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F24-0134-41DB-AE53-1294DFCF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52F-23BE-41E0-9592-DD41E620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E5D-8F78-4493-8528-896FF4E9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604-8D14-4B23-9A0E-21FB72FB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AD2-6B6C-47FB-BB95-A56E8137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64B-6E77-4EDA-8AA0-AE0EB9EE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BCA-753A-4C02-B6D6-7894D990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F18-D030-44D1-ACDC-030BC293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007-AAD0-46FD-8B45-7B38CA87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7E31-1F09-4936-88E6-F5BC89325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8660" t="15539" r="10141" b="8658"/>
          <a:stretch/>
        </p:blipFill>
        <p:spPr>
          <a:xfrm>
            <a:off x="539640" y="907920"/>
            <a:ext cx="7920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4:33:05Z</dcterms:created>
  <dc:creator>ESCOTA</dc:creator>
  <dc:description/>
  <dc:language>en-US</dc:language>
  <cp:lastModifiedBy>ESCOTA</cp:lastModifiedBy>
  <dcterms:modified xsi:type="dcterms:W3CDTF">2007-01-11T14:33:42Z</dcterms:modified>
  <cp:revision>1</cp:revision>
  <dc:subject/>
  <dc:title>Diapositive 1</dc:title>
</cp:coreProperties>
</file>