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098-971F-4C09-9CC7-A08EDF22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8B4-5E60-47E1-8840-3780A8AF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BF7-33CA-476A-8D40-5DB1B8BF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EBE-7926-41FA-93DE-ECFAC5A7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94F-5DCF-451C-A8A5-9493039F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D3B-D0C7-42BE-8C12-CFC3AD6B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8C29-DA35-418B-A1F2-1538BA68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93A4-04EF-474C-AF2A-E79EE6B3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3EA-8943-48A8-8082-FCBD65C2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DEC-0F09-4DBA-9FE0-2FCA0789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675-0C7D-4C51-A857-404A72E6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6B6-41C9-43E2-BCE3-EE142258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2D62-2577-4B41-B7E4-0E47A0BD8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9391" t="14564" r="9391" b="10636"/>
          <a:stretch/>
        </p:blipFill>
        <p:spPr>
          <a:xfrm>
            <a:off x="611280" y="836640"/>
            <a:ext cx="7921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4:17:53Z</dcterms:created>
  <dc:creator>ESCOTA</dc:creator>
  <dc:description/>
  <dc:language>en-US</dc:language>
  <cp:lastModifiedBy>ESCOTA</cp:lastModifiedBy>
  <dcterms:modified xsi:type="dcterms:W3CDTF">2007-01-10T14:18:48Z</dcterms:modified>
  <cp:revision>1</cp:revision>
  <dc:subject/>
  <dc:title>Diapositive 1</dc:title>
</cp:coreProperties>
</file>