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B855-920F-4E90-A755-F173B2D8A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34B2-5740-435C-936F-DE84B7CB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0564-5729-4CF8-8A05-52D79930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82DD-3B78-42C4-A7B1-EB16FA6D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4A5A1-1BF0-468E-8D90-71FCB9496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9E1EF-DF73-4758-81A2-2E6D3072B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6E59B-2BA3-426F-991B-02E13B947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1AAD6-CCB0-40F1-A23E-8123C93FB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A98F-EB76-4B09-8C71-63D89BEDF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054A-B6CE-4CC7-B4FC-EEC6AEAF2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B476-6805-4A9D-80DC-707EAB80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372A-856F-43EC-B416-2B4D9B09E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29EE0-FB78-49F9-8345-07C4C67D5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8660" t="15539" r="10141" b="8658"/>
          <a:stretch/>
        </p:blipFill>
        <p:spPr>
          <a:xfrm>
            <a:off x="539640" y="907920"/>
            <a:ext cx="792000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1T14:30:50Z</dcterms:created>
  <dc:creator>ESCOTA</dc:creator>
  <dc:description/>
  <dc:language>en-US</dc:language>
  <cp:lastModifiedBy>ESCOTA</cp:lastModifiedBy>
  <dcterms:modified xsi:type="dcterms:W3CDTF">2007-01-11T14:32:06Z</dcterms:modified>
  <cp:revision>1</cp:revision>
  <dc:subject/>
  <dc:title>Diapositive 1</dc:title>
</cp:coreProperties>
</file>