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916-38A7-4341-BB0C-A9682582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D12-7E04-4ECC-9E87-F4886D72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998-5D74-47F2-AED8-AB835CE7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226-E2EB-4260-AFD5-E2E9AD72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442-9DCA-422B-9768-31FEDB48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684-AC46-411E-BE16-8987E776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1CC-0CD2-479C-9658-4464159F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91A-27AE-44EC-B55D-C65A4B3D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27A-F136-4C98-A0A1-A6B3925C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A38-1F65-4483-BAB6-BBDD07E9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753-0B13-4B46-96C2-D3A4FD38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6F6-BC0E-42D0-BB73-641D2940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5C5E-25C0-4BC5-8892-B4F2F0C70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8660" t="14564" r="9391" b="8658"/>
          <a:stretch/>
        </p:blipFill>
        <p:spPr>
          <a:xfrm>
            <a:off x="539640" y="83664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06:34:37Z</dcterms:created>
  <dc:creator>ESCOTA</dc:creator>
  <dc:description/>
  <dc:language>en-US</dc:language>
  <cp:lastModifiedBy>ESCOTA</cp:lastModifiedBy>
  <dcterms:modified xsi:type="dcterms:W3CDTF">2007-01-12T06:35:25Z</dcterms:modified>
  <cp:revision>1</cp:revision>
  <dc:subject/>
  <dc:title>Diapositive 1</dc:title>
</cp:coreProperties>
</file>