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51399-6A1C-475D-811A-1B0252B405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97DBB-8847-4761-8619-71592E8C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7D9-E95B-4755-9D93-805E14C375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5EEEB-101D-4446-8330-2785EF9A6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0AD5-BC1C-48BE-8FBC-3B9585860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EBE32-9AFE-4962-98A0-6AA80FB79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9B88-EF0A-4B53-BFAB-BCDB40125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0E055-9C61-4DE9-94A4-00411613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01DC5-686A-459A-8190-67CC572B3D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A996F-B85D-48D0-8151-14527DC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6FC-122A-424B-A427-845EBB08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1EF4D-F2CA-47E5-BAC3-5BD93E2B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D1E3C-113C-4307-AE05-9D4FDF809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8660" t="14564" r="9391" b="8658"/>
          <a:stretch/>
        </p:blipFill>
        <p:spPr>
          <a:xfrm>
            <a:off x="539640" y="836640"/>
            <a:ext cx="799308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2T06:34:37Z</dcterms:created>
  <dc:creator>ESCOTA</dc:creator>
  <dc:description/>
  <dc:language>en-US</dc:language>
  <cp:lastModifiedBy>ESCOTA</cp:lastModifiedBy>
  <dcterms:modified xsi:type="dcterms:W3CDTF">2007-01-12T06:35:25Z</dcterms:modified>
  <cp:revision>1</cp:revision>
  <dc:subject/>
  <dc:title>Diapositive 1</dc:title>
</cp:coreProperties>
</file>