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A986-29C5-45B0-815C-E2E8AED5A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27E1-58C9-418D-A2A5-28F317101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56A-964A-4389-A283-284D505A8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E3E5C-9702-47BF-B922-16697AC6E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776B-8CA0-4A86-9FCD-75999B241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0F6B5-5539-4BAF-8897-552399D4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C424-63FD-4CD5-AD41-B720DB4C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37692-262E-41A4-8AF5-8E9FD37B7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AADDC-9D84-4725-9D21-442DBFA00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7714-C05D-4170-97D8-F8E035B2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5685-689C-4F50-9E5F-FE5E397C8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3AB29-9CB2-4AEF-BF30-D24BE6C7D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EC8B-77CF-453D-899A-844B98FAF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8660" t="15539" r="10141" b="8658"/>
          <a:stretch/>
        </p:blipFill>
        <p:spPr>
          <a:xfrm>
            <a:off x="539640" y="907920"/>
            <a:ext cx="7920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4:33:05Z</dcterms:created>
  <dc:creator>ESCOTA</dc:creator>
  <dc:description/>
  <dc:language>en-US</dc:language>
  <cp:lastModifiedBy>ESCOTA</cp:lastModifiedBy>
  <dcterms:modified xsi:type="dcterms:W3CDTF">2007-01-11T14:33:42Z</dcterms:modified>
  <cp:revision>1</cp:revision>
  <dc:subject/>
  <dc:title>Diapositive 1</dc:title>
</cp:coreProperties>
</file>