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DD1-93F3-40BC-AB44-A4311A4F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CB5-5C0E-44E1-AC91-7676305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5B9-7A3F-4AB5-8878-207E597F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610-99EF-40FE-9BC0-CABDBF6E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1C5-9AE0-4632-B5D5-F8D43FC5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BA4-9C44-4955-8FAB-2D1C460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191-37DB-4278-8DCB-B107A4F5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731-AA29-45FB-A532-CFDAF771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AAE-6CB3-41FF-8E9D-A7B6FEAC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712-3BCC-4A5B-ABA6-A540964A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5C2-C71C-4AF8-A2D0-CD911D7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C4A-C090-4862-9604-A66C66D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4EC1-D6F2-451D-8F47-59ED76679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660" t="15539" r="10141" b="8658"/>
          <a:stretch/>
        </p:blipFill>
        <p:spPr>
          <a:xfrm>
            <a:off x="539640" y="907920"/>
            <a:ext cx="7920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30:50Z</dcterms:created>
  <dc:creator>ESCOTA</dc:creator>
  <dc:description/>
  <dc:language>en-US</dc:language>
  <cp:lastModifiedBy>ESCOTA</cp:lastModifiedBy>
  <dcterms:modified xsi:type="dcterms:W3CDTF">2007-01-11T14:32:06Z</dcterms:modified>
  <cp:revision>1</cp:revision>
  <dc:subject/>
  <dc:title>Diapositive 1</dc:title>
</cp:coreProperties>
</file>